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00850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0FEA1C-F9B4-4F25-9966-AD589C3AD1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40120"/>
            <a:ext cx="822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993DF2-DDEF-43ED-A115-925C3FEDAE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E5BD23-8E3F-4CC2-9FEA-87DC852F07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4100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4100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4012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4012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4012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F43926-D813-49C2-AEB0-70BC3F2AD7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2716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9521FB-E0AE-407A-9D20-B7EC7356AB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840120"/>
            <a:ext cx="822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840120"/>
            <a:ext cx="822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34100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34100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84012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84012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84012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F4F132-5852-43A4-8CAB-7B177352F3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B9F4FA-0117-4899-8FEC-2C0FFA98A2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4F47B4-6795-4661-8C99-044933B455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716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82F303-B7CF-48C8-9515-0371D986E3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121748-1777-44D7-BBE1-FFC17C9F2A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B664AD-67AC-4992-B32A-645CE46274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40120"/>
            <a:ext cx="822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29E640-29AD-4834-905F-6DE7A1B0FC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alibri"/>
              </a:rPr>
              <a:t>Click to edit the outline text format</a:t>
            </a: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SzPct val="8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alibri"/>
              </a:rPr>
              <a:t>Second Outline Level</a:t>
            </a: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  <a:p>
            <a:pPr lvl="2" marL="1143000" indent="-228600">
              <a:spcBef>
                <a:spcPts val="901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alibri"/>
              </a:rPr>
              <a:t>Third Outline Level</a:t>
            </a: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  <a:p>
            <a:pPr lvl="3" marL="1600200" indent="-22860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alibri"/>
              </a:rPr>
              <a:t>Fourth Outline Level</a:t>
            </a: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  <a:p>
            <a:pPr lvl="4" marL="2057400" indent="-22860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alibri"/>
              </a:rPr>
              <a:t>Fifth Outline Level</a:t>
            </a: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  <a:p>
            <a:pPr lvl="5" marL="2057400" indent="-22860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alibri"/>
              </a:rPr>
              <a:t>Sixth Outline Level</a:t>
            </a: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  <a:p>
            <a:pPr lvl="6" marL="2057400" indent="-22860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alibri"/>
              </a:rPr>
              <a:t>Seventh Outline Level</a:t>
            </a: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475920" y="6381360"/>
            <a:ext cx="5032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Direction des Systèmes d'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3781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B1501-D404-44BE-924E-EDAB09FFE950}" type="slidenum">
              <a:rPr b="0" lang="fr-FR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7"/>
          <p:cNvSpPr/>
          <p:nvPr/>
        </p:nvSpPr>
        <p:spPr>
          <a:xfrm>
            <a:off x="0" y="1144440"/>
            <a:ext cx="9144000" cy="144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99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8"/>
          <p:cNvSpPr/>
          <p:nvPr/>
        </p:nvSpPr>
        <p:spPr>
          <a:xfrm>
            <a:off x="0" y="1341360"/>
            <a:ext cx="9144000" cy="287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99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9" descr=""/>
          <p:cNvPicPr/>
          <p:nvPr/>
        </p:nvPicPr>
        <p:blipFill>
          <a:blip r:embed="rId2"/>
          <a:stretch/>
        </p:blipFill>
        <p:spPr>
          <a:xfrm>
            <a:off x="0" y="0"/>
            <a:ext cx="5867280" cy="134316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10"/>
          <p:cNvSpPr/>
          <p:nvPr/>
        </p:nvSpPr>
        <p:spPr>
          <a:xfrm>
            <a:off x="0" y="6084720"/>
            <a:ext cx="9144000" cy="152640"/>
          </a:xfrm>
          <a:prstGeom prst="rect">
            <a:avLst/>
          </a:prstGeom>
          <a:gradFill rotWithShape="0">
            <a:gsLst>
              <a:gs pos="0">
                <a:srgbClr val="3399ff"/>
              </a:gs>
              <a:gs pos="100000">
                <a:srgbClr val="d8e8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alibri"/>
              </a:rPr>
              <a:t>Click to edit the outline text format</a:t>
            </a: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SzPct val="8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alibri"/>
              </a:rPr>
              <a:t>Second Outline Level</a:t>
            </a: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  <a:p>
            <a:pPr lvl="2" marL="1143000" indent="-228600">
              <a:spcBef>
                <a:spcPts val="901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alibri"/>
              </a:rPr>
              <a:t>Third Outline Level</a:t>
            </a: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  <a:p>
            <a:pPr lvl="3" marL="1600200" indent="-22860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alibri"/>
              </a:rPr>
              <a:t>Fourth Outline Level</a:t>
            </a: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  <a:p>
            <a:pPr lvl="4" marL="2057400" indent="-22860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alibri"/>
              </a:rPr>
              <a:t>Fifth Outline Level</a:t>
            </a: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  <a:p>
            <a:pPr lvl="5" marL="2057400" indent="-22860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alibri"/>
              </a:rPr>
              <a:t>Sixth Outline Level</a:t>
            </a: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  <a:p>
            <a:pPr lvl="6" marL="2057400" indent="-22860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alibri"/>
              </a:rPr>
              <a:t>Seventh Outline Level</a:t>
            </a: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3"/>
          </p:nvPr>
        </p:nvSpPr>
        <p:spPr>
          <a:xfrm>
            <a:off x="5724000" y="6265440"/>
            <a:ext cx="3240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33C96-9C2A-4B89-AB13-9BAD9095D683}" type="datetime2">
              <a:rPr b="0" lang="fr-FR" sz="1600" spc="-1" strike="noStrike">
                <a:solidFill>
                  <a:srgbClr val="000000"/>
                </a:solidFill>
                <a:latin typeface="Calibri"/>
              </a:rPr>
              <a:t>jeudi 30 juillet 2026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4"/>
          </p:nvPr>
        </p:nvSpPr>
        <p:spPr>
          <a:xfrm>
            <a:off x="92160" y="6265440"/>
            <a:ext cx="5487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Direction des Systèmes d'In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s://mobilite.gard.fr/" TargetMode="External"/><Relationship Id="rId2" Type="http://schemas.openxmlformats.org/officeDocument/2006/relationships/hyperlink" Target="https://mobilite.gard.fr/" TargetMode="Externa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s://teletravail.gard.fr/" TargetMode="Externa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989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333399"/>
                </a:solidFill>
                <a:latin typeface="Calibri"/>
              </a:rPr>
              <a:t>Colloque 14 Novembre 2018 </a:t>
            </a:r>
            <a:br>
              <a:rPr sz="4400"/>
            </a:br>
            <a:endParaRPr b="0" lang="en-US" sz="4400" spc="-1" strike="noStrike">
              <a:solidFill>
                <a:srgbClr val="33339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Espace réservé du numéro de diapositive 4"/>
          <p:cNvSpPr/>
          <p:nvPr/>
        </p:nvSpPr>
        <p:spPr>
          <a:xfrm>
            <a:off x="6553080" y="63784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83331-9BDC-4C38-B46A-C6FB16EDC7B8}" type="slidenum">
              <a:rPr b="0" lang="fr-FR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333399"/>
                </a:solidFill>
                <a:latin typeface="Calibri"/>
              </a:rPr>
              <a:t>Mobilité</a:t>
            </a: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Le besoin: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99"/>
                </a:solidFill>
                <a:latin typeface="Georgia"/>
              </a:rPr>
              <a:t>Accéder au système d’information en déplacement ou à domicile (VIP, cadres, astreintes …)</a:t>
            </a: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99"/>
                </a:solidFill>
                <a:latin typeface="Georgia"/>
              </a:rPr>
              <a:t>Complémentaire au smartphone (accès aux dossiers de travail, outils…)</a:t>
            </a: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99"/>
                </a:solidFill>
                <a:latin typeface="Georgia"/>
              </a:rPr>
              <a:t>Disponibilité du système d’information 7/7, 24/24 (en dehors des horaires de travail)</a:t>
            </a: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La solution: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99"/>
                </a:solidFill>
                <a:latin typeface="Georgia"/>
              </a:rPr>
              <a:t>Identique au télétravail via un groupe et une adresse différente</a:t>
            </a: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99"/>
                </a:solidFill>
                <a:latin typeface="Georgia"/>
              </a:rPr>
              <a:t>Accessible depuis un portail internet   </a:t>
            </a:r>
            <a:r>
              <a:rPr b="0" lang="fr-FR" sz="1600" spc="-1" strike="noStrike" u="sng">
                <a:solidFill>
                  <a:srgbClr val="009999"/>
                </a:solidFill>
                <a:uFillTx/>
                <a:latin typeface="Georgia"/>
                <a:hlinkClick r:id="rId1"/>
              </a:rPr>
              <a:t>https://mobilite.gard.fr</a:t>
            </a:r>
            <a:r>
              <a:rPr b="0" lang="fr-FR" sz="1600" spc="-1" strike="noStrike" u="sng">
                <a:solidFill>
                  <a:srgbClr val="009999"/>
                </a:solidFill>
                <a:uFillTx/>
                <a:latin typeface="Georgia"/>
                <a:hlinkClick r:id="rId2"/>
              </a:rPr>
              <a:t>/</a:t>
            </a: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Axe de réflexion: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99"/>
                </a:solidFill>
                <a:latin typeface="Georgia"/>
              </a:rPr>
              <a:t>Construction d’une charte du droit à la déconnexion (exemple mairie de Paris)</a:t>
            </a: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24" name="AutoShape 6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Espace réservé du numéro de diapositive 4"/>
          <p:cNvSpPr/>
          <p:nvPr/>
        </p:nvSpPr>
        <p:spPr>
          <a:xfrm>
            <a:off x="6553080" y="63784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65ED3-094D-4DC3-8E9D-5FFEF95A6BD8}" type="slidenum">
              <a:rPr b="0" lang="fr-FR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333399"/>
                </a:solidFill>
                <a:latin typeface="Calibri"/>
              </a:rPr>
              <a:t>Missions nouvelles d’accompagnement</a:t>
            </a: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50752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333399"/>
                </a:solidFill>
                <a:uFillTx/>
                <a:latin typeface="Georgia"/>
              </a:rPr>
              <a:t>Aujourd’hui :</a:t>
            </a: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0" lang="fr-FR" sz="1800" spc="-1" strike="noStrike">
                <a:solidFill>
                  <a:srgbClr val="333399"/>
                </a:solidFill>
                <a:latin typeface="Georgia"/>
              </a:rPr>
              <a:t>2 postes de formateur bureautique au sein du service utilisateurs :</a:t>
            </a: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Georgia"/>
              </a:rPr>
              <a:t>Formation présentiel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Georgia"/>
              </a:rPr>
              <a:t>Auto formatio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333399"/>
                </a:solidFill>
                <a:uFillTx/>
                <a:latin typeface="Georgia"/>
              </a:rPr>
              <a:t>Le besoin:</a:t>
            </a: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99"/>
                </a:solidFill>
                <a:latin typeface="Georgia"/>
              </a:rPr>
              <a:t>Projets de dématérialisation + développement des usages numériques =&gt; repenser nos méthodes d’accompagnement</a:t>
            </a: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99"/>
                </a:solidFill>
                <a:latin typeface="Georgia"/>
              </a:rPr>
              <a:t>Objectifs :</a:t>
            </a: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Georgia"/>
              </a:rPr>
              <a:t>Gagner en efficacité et réactivité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Georgia"/>
              </a:rPr>
              <a:t>Renforcer notre présence auprès des utilisateur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333399"/>
                </a:solidFill>
                <a:uFillTx/>
                <a:latin typeface="Georgia"/>
              </a:rPr>
              <a:t>Evolution envisagée :</a:t>
            </a: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0" lang="fr-FR" sz="1800" spc="-1" strike="noStrike">
                <a:solidFill>
                  <a:srgbClr val="333399"/>
                </a:solidFill>
                <a:latin typeface="Georgia"/>
              </a:rPr>
              <a:t>formateur bureautique =&gt; chargé d’accompagnement des usages numériques</a:t>
            </a: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28" name="AutoShape 6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Espace réservé du numéro de diapositive 4"/>
          <p:cNvSpPr/>
          <p:nvPr/>
        </p:nvSpPr>
        <p:spPr>
          <a:xfrm>
            <a:off x="6553080" y="63784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BE134-1F65-450D-BF2B-DCD11F8362A5}" type="slidenum">
              <a:rPr b="0" lang="fr-FR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333399"/>
                </a:solidFill>
                <a:latin typeface="Calibri"/>
              </a:rPr>
              <a:t>Sommaire: </a:t>
            </a: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682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3399"/>
                </a:solidFill>
                <a:latin typeface="Georgia"/>
              </a:rPr>
              <a:t>Télétravail</a:t>
            </a:r>
            <a:endParaRPr b="0" lang="en-US" sz="3200" spc="-1" strike="noStrike">
              <a:solidFill>
                <a:srgbClr val="333399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3399"/>
                </a:solidFill>
                <a:latin typeface="Georgia"/>
              </a:rPr>
              <a:t>Mobilité</a:t>
            </a:r>
            <a:endParaRPr b="0" lang="en-US" sz="3200" spc="-1" strike="noStrike">
              <a:solidFill>
                <a:srgbClr val="333399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3399"/>
                </a:solidFill>
                <a:latin typeface="Georgia"/>
              </a:rPr>
              <a:t>Missions nouvelles</a:t>
            </a:r>
            <a:endParaRPr b="0" lang="en-US" sz="3200" spc="-1" strike="noStrike">
              <a:solidFill>
                <a:srgbClr val="333399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3399"/>
                </a:solidFill>
                <a:latin typeface="Georgia"/>
              </a:rPr>
              <a:t>Questions / Réponses</a:t>
            </a:r>
            <a:endParaRPr b="0" lang="en-US" sz="3200" spc="-1" strike="noStrike">
              <a:solidFill>
                <a:srgbClr val="333399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Espace réservé du numéro de diapositive 4"/>
          <p:cNvSpPr/>
          <p:nvPr/>
        </p:nvSpPr>
        <p:spPr>
          <a:xfrm>
            <a:off x="6553080" y="63784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BCAFE-A0E1-4DBD-9228-EE800F4BCF4A}" type="slidenum">
              <a:rPr b="0" lang="fr-FR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333399"/>
                </a:solidFill>
                <a:latin typeface="Calibri"/>
              </a:rPr>
              <a:t>Télétravail – le projet</a:t>
            </a: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Télétravail instauré en 2012 =&gt; télécentres (à ce jour 13 sites)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Périmètre élargi au télétravail à domicile =&gt; règlement présenté en 2017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Un chef de projet nommé (au sein de la DRH)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Phase pilote programmée sur 6 mois (janvier -&gt; juin 2018) = 50 agents avec une priorité pour :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Georgia"/>
              </a:rPr>
              <a:t>Télétravailleurs actuels en télécent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Georgia"/>
              </a:rPr>
              <a:t>Agents en situation de handicap ou confrontés à des problèmes de santé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Georgia"/>
              </a:rPr>
              <a:t>Agents souhaitant expérimenter le télétravai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99"/>
                </a:solidFill>
                <a:latin typeface="Calibri"/>
              </a:rPr>
              <a:t> </a:t>
            </a: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Communication sur Intranet avec la publication du guide du télétravail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91" name="AutoShape 6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Espace réservé du numéro de diapositive 4"/>
          <p:cNvSpPr/>
          <p:nvPr/>
        </p:nvSpPr>
        <p:spPr>
          <a:xfrm>
            <a:off x="6553080" y="63784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83EAF-7BE4-4CF9-B823-76D842A0ECCD}" type="slidenum">
              <a:rPr b="0" lang="fr-FR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333399"/>
                </a:solidFill>
                <a:latin typeface="Calibri"/>
              </a:rPr>
              <a:t>Télétravail – le dispositif</a:t>
            </a: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Demande volontaire de l’agent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Avis de la hiérarchie et décision au niveau du DGA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Préparation et diffusion d’un arrêté individuel de télétravail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Equipement fourni par la collectivité + Indemnité 3€/jour télétravaillé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Une journée de formation obligatoire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95" name="AutoShape 6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Espace réservé du numéro de diapositive 4"/>
          <p:cNvSpPr/>
          <p:nvPr/>
        </p:nvSpPr>
        <p:spPr>
          <a:xfrm>
            <a:off x="6553080" y="63784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9CB63-2B74-4E4C-B9D9-E943BA9CD2C7}" type="slidenum">
              <a:rPr b="0" lang="fr-FR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333399"/>
                </a:solidFill>
                <a:latin typeface="Calibri"/>
              </a:rPr>
              <a:t>Télétravail </a:t>
            </a: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3399"/>
                </a:solidFill>
                <a:latin typeface="Georgia"/>
              </a:rPr>
              <a:t>La solution retenue:</a:t>
            </a:r>
            <a:endParaRPr b="0" lang="en-US" sz="32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99"/>
                </a:solidFill>
                <a:latin typeface="Georgia"/>
              </a:rPr>
              <a:t>Accessible depuis un portail internet   </a:t>
            </a:r>
            <a:r>
              <a:rPr b="0" lang="fr-FR" sz="1600" spc="-1" strike="noStrike" u="sng">
                <a:solidFill>
                  <a:srgbClr val="009999"/>
                </a:solidFill>
                <a:uFillTx/>
                <a:latin typeface="Georgia"/>
                <a:hlinkClick r:id="rId1"/>
              </a:rPr>
              <a:t>https://teletravail.gard.fr</a:t>
            </a: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99"/>
                </a:solidFill>
                <a:latin typeface="Georgia"/>
              </a:rPr>
              <a:t>Indépendant du matériel (Firefox Préconisé)</a:t>
            </a: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99"/>
                </a:solidFill>
                <a:latin typeface="Georgia"/>
              </a:rPr>
              <a:t>Fonctionnalité  « Etat du service » intégré </a:t>
            </a: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99"/>
                </a:solidFill>
                <a:latin typeface="Georgia"/>
              </a:rPr>
              <a:t>Un bureau virtuel pour chaque télétravailleur (Citrix)</a:t>
            </a: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99"/>
                </a:solidFill>
                <a:latin typeface="Georgia"/>
              </a:rPr>
              <a:t>Connexion automatiquement en mode télétravail</a:t>
            </a: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99" name="AutoShape 6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Image 1" descr=""/>
          <p:cNvPicPr/>
          <p:nvPr/>
        </p:nvPicPr>
        <p:blipFill>
          <a:blip r:embed="rId2"/>
          <a:stretch/>
        </p:blipFill>
        <p:spPr>
          <a:xfrm>
            <a:off x="6446880" y="1371600"/>
            <a:ext cx="2424240" cy="3182760"/>
          </a:xfrm>
          <a:prstGeom prst="rect">
            <a:avLst/>
          </a:prstGeom>
          <a:ln w="0">
            <a:noFill/>
          </a:ln>
        </p:spPr>
      </p:pic>
      <p:pic>
        <p:nvPicPr>
          <p:cNvPr id="101" name="Image 6" descr=""/>
          <p:cNvPicPr/>
          <p:nvPr/>
        </p:nvPicPr>
        <p:blipFill>
          <a:blip r:embed="rId3"/>
          <a:stretch/>
        </p:blipFill>
        <p:spPr>
          <a:xfrm>
            <a:off x="428760" y="3598920"/>
            <a:ext cx="6159240" cy="266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Espace réservé du numéro de diapositive 4"/>
          <p:cNvSpPr/>
          <p:nvPr/>
        </p:nvSpPr>
        <p:spPr>
          <a:xfrm>
            <a:off x="6553080" y="63784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BF896-F3CF-4D1E-B37A-8499FDAE82DB}" type="slidenum">
              <a:rPr b="0" lang="fr-FR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333399"/>
                </a:solidFill>
                <a:latin typeface="Calibri"/>
              </a:rPr>
              <a:t>Télétravail </a:t>
            </a: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3399"/>
                </a:solidFill>
                <a:latin typeface="Georgia"/>
              </a:rPr>
              <a:t>Le matériel:</a:t>
            </a:r>
            <a:endParaRPr b="0" lang="en-US" sz="32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99"/>
                </a:solidFill>
                <a:latin typeface="Georgia"/>
              </a:rPr>
              <a:t>Un équipement informatique fournit par le département (pas de téléphonie)</a:t>
            </a: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99"/>
                </a:solidFill>
                <a:latin typeface="Georgia"/>
              </a:rPr>
              <a:t>Un même ordinateur pour 2 usages (ordinateur portable en remplacement du pc fixe)</a:t>
            </a: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99"/>
                </a:solidFill>
                <a:latin typeface="Georgia"/>
              </a:rPr>
              <a:t>Transfert des donnés utilisateurs</a:t>
            </a: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0" lang="fr-FR" sz="1600" spc="-1" strike="noStrike">
                <a:solidFill>
                  <a:srgbClr val="333399"/>
                </a:solidFill>
                <a:latin typeface="Georgia"/>
              </a:rPr>
              <a:t>Avant </a:t>
            </a:r>
            <a:r>
              <a:rPr b="0" lang="fr-FR" sz="1600" spc="-1" strike="noStrike">
                <a:solidFill>
                  <a:srgbClr val="333399"/>
                </a:solidFill>
                <a:latin typeface="Georgia"/>
              </a:rPr>
              <a:t>	</a:t>
            </a:r>
            <a:r>
              <a:rPr b="0" lang="fr-FR" sz="1600" spc="-1" strike="noStrike">
                <a:solidFill>
                  <a:srgbClr val="333399"/>
                </a:solidFill>
                <a:latin typeface="Georgia"/>
              </a:rPr>
              <a:t>                             Après</a:t>
            </a: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99"/>
                </a:solidFill>
                <a:latin typeface="Georgia"/>
              </a:rPr>
              <a:t>(Bureau)                                (Bureau/Maison)</a:t>
            </a: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05" name="AutoShape 6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Image 5" descr=""/>
          <p:cNvPicPr/>
          <p:nvPr/>
        </p:nvPicPr>
        <p:blipFill>
          <a:blip r:embed="rId1"/>
          <a:stretch/>
        </p:blipFill>
        <p:spPr>
          <a:xfrm>
            <a:off x="4187880" y="3630600"/>
            <a:ext cx="2541600" cy="2541600"/>
          </a:xfrm>
          <a:prstGeom prst="rect">
            <a:avLst/>
          </a:prstGeom>
          <a:ln w="0">
            <a:noFill/>
          </a:ln>
        </p:spPr>
      </p:pic>
      <p:pic>
        <p:nvPicPr>
          <p:cNvPr id="107" name="Image 9" descr=""/>
          <p:cNvPicPr/>
          <p:nvPr/>
        </p:nvPicPr>
        <p:blipFill>
          <a:blip r:embed="rId2"/>
          <a:stretch/>
        </p:blipFill>
        <p:spPr>
          <a:xfrm>
            <a:off x="2400480" y="4605480"/>
            <a:ext cx="1563480" cy="782640"/>
          </a:xfrm>
          <a:prstGeom prst="rect">
            <a:avLst/>
          </a:prstGeom>
          <a:ln w="0">
            <a:noFill/>
          </a:ln>
        </p:spPr>
      </p:pic>
      <p:pic>
        <p:nvPicPr>
          <p:cNvPr id="108" name="Image 11" descr=""/>
          <p:cNvPicPr/>
          <p:nvPr/>
        </p:nvPicPr>
        <p:blipFill>
          <a:blip r:embed="rId3"/>
          <a:stretch/>
        </p:blipFill>
        <p:spPr>
          <a:xfrm>
            <a:off x="-237960" y="4076640"/>
            <a:ext cx="2530440" cy="15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Espace réservé du numéro de diapositive 4"/>
          <p:cNvSpPr/>
          <p:nvPr/>
        </p:nvSpPr>
        <p:spPr>
          <a:xfrm>
            <a:off x="6553080" y="63784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475C4-A4CD-4A08-B43E-EC20FA86AA53}" type="slidenum">
              <a:rPr b="0" lang="fr-FR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333399"/>
                </a:solidFill>
                <a:latin typeface="Calibri"/>
              </a:rPr>
              <a:t>Télétravail – l’accompagnement</a:t>
            </a: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2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333399"/>
                </a:solidFill>
                <a:uFillTx/>
                <a:latin typeface="Georgia"/>
              </a:rPr>
              <a:t>Pour les agents bénéficiant du télétravail </a:t>
            </a:r>
            <a:endParaRPr b="0" lang="en-US" sz="24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Livraison de l’équipement : 1 technicien informatique + 1 formatrice 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1 journée de formation obligatoire - 4 points principaux abordés :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lvl="1" marL="713160" indent="-2743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Georgia"/>
              </a:rPr>
              <a:t>Présentation du proj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Georgia"/>
              </a:rPr>
              <a:t>Accès au système d’inform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Georgia"/>
              </a:rPr>
              <a:t>Risques psychosociaux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Georgia"/>
              </a:rPr>
              <a:t>Ergonomie du poste de travai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SzPct val="120000"/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5 sessions comprenant 10 participants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Assistance informatique :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lvl="1" marL="713160" indent="-2743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Georgia"/>
              </a:rPr>
              <a:t>Problème accès Internet =&gt; se rapprocher de son fournisseu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Georgia"/>
              </a:rPr>
              <a:t>Problème une fois connecté dans la plateforme télétravail =&gt; solliciter le support via notre solution de saisie des incidents ou au 526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=&gt; 40 tickets + 40 contacts téléphoniques 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12" name="AutoShape 6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Espace réservé du numéro de diapositive 4"/>
          <p:cNvSpPr/>
          <p:nvPr/>
        </p:nvSpPr>
        <p:spPr>
          <a:xfrm>
            <a:off x="6553080" y="63784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42D74-00E5-42A1-BD8C-A18147DD6F05}" type="slidenum">
              <a:rPr b="0" lang="fr-FR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333399"/>
                </a:solidFill>
                <a:latin typeface="Calibri"/>
              </a:rPr>
              <a:t>Télétravail – l’accompagnement</a:t>
            </a: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333399"/>
                </a:solidFill>
                <a:uFillTx/>
                <a:latin typeface="Georgia"/>
              </a:rPr>
              <a:t>Pour les encadrants : </a:t>
            </a:r>
            <a:endParaRPr b="0" lang="en-US" sz="24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½ journée de formation facultative =&gt; objectif : préparer les encadrants à la pratique de cette nouvelle organisation du travail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4 points évoqués :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Georgia"/>
              </a:rPr>
              <a:t>Le cadre et les enjeux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Georgia"/>
              </a:rPr>
              <a:t>Les conditions de réussite du télétravail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Georgia"/>
              </a:rPr>
              <a:t>La gestion de l’activité et des temps de télétravail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Georgia"/>
              </a:rPr>
              <a:t>Clôture – débat « opportunité pour réinterroger son mode de management 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SzPct val="120000"/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1 session avec 6 participants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référent télétravail pour répondre aux questions pratiques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16" name="AutoShape 6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Espace réservé du numéro de diapositive 4"/>
          <p:cNvSpPr/>
          <p:nvPr/>
        </p:nvSpPr>
        <p:spPr>
          <a:xfrm>
            <a:off x="6553080" y="63784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8FC5F-7003-4F27-9D3E-5F35B9EF23BF}" type="slidenum">
              <a:rPr b="0" lang="fr-FR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333399"/>
                </a:solidFill>
                <a:latin typeface="Calibri"/>
              </a:rPr>
              <a:t>Télétravail</a:t>
            </a: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99"/>
                </a:solidFill>
                <a:latin typeface="Georgia"/>
              </a:rPr>
              <a:t>Bilan:</a:t>
            </a: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99"/>
                </a:solidFill>
                <a:latin typeface="Georgia"/>
              </a:rPr>
              <a:t>Réalisation d’une enquête de satisfaction (agents et encadrants)</a:t>
            </a: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99"/>
                </a:solidFill>
                <a:latin typeface="Georgia"/>
              </a:rPr>
              <a:t>40 réponses sur 50 télétravailleurs ( retour positif sur le matériel et la journée formation)</a:t>
            </a: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99"/>
                </a:solidFill>
                <a:latin typeface="Georgia"/>
              </a:rPr>
              <a:t>Poursuite de l’expérimentation sur 2019 (dossiers déjà en attente)</a:t>
            </a: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99"/>
                </a:solidFill>
                <a:latin typeface="Georgia"/>
              </a:rPr>
              <a:t>Difficultés concernant l’adaptation des postes au domicile (téléphonie, RQTH..)</a:t>
            </a: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99"/>
                </a:solidFill>
                <a:latin typeface="Georgia"/>
              </a:rPr>
              <a:t>Organisation et remplacement du poste chronophage (3h/agent)</a:t>
            </a: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99"/>
                </a:solidFill>
                <a:latin typeface="Georgia"/>
              </a:rPr>
              <a:t>Complexité du support informatique à domicile (problématique de connexion)</a:t>
            </a: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99"/>
                </a:solidFill>
                <a:latin typeface="Georgia"/>
              </a:rPr>
              <a:t>Formation des encadrants en amont pour accompagner les agents (droits et devoirs)</a:t>
            </a: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99"/>
                </a:solidFill>
                <a:latin typeface="Georgia"/>
              </a:rPr>
              <a:t>Politique d’équipement matériel, utilisation du matériel personnel</a:t>
            </a: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20" name="AutoShape 6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09T08:24:03Z</dcterms:created>
  <dc:creator>debos_b</dc:creator>
  <dc:description/>
  <dc:language>en-US</dc:language>
  <cp:lastModifiedBy>blachere_k</cp:lastModifiedBy>
  <dcterms:modified xsi:type="dcterms:W3CDTF">2018-11-13T15:20:18Z</dcterms:modified>
  <cp:revision>95</cp:revision>
  <dc:subject/>
  <dc:title>Organisation DSI</dc:title>
</cp:coreProperties>
</file>